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3795-9AC1-4719-A78A-766D646CB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2CEF-7226-4707-A9AD-C65017D07160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EA7A-2CDC-43E2-B0B8-75E05B000918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80C-5F53-4046-B092-85F2E4F3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F88-0542-48AD-8459-EC70868A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881-A59C-4E8F-A076-95966B3A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138-0223-4850-8A6F-CD2CFB7E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A103-5A18-4D37-A396-5C9B6A08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C333-463B-4867-AAB4-85041CD5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055D-A8CE-4E23-BABF-7D8BDC03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A0F8-5997-415F-AD67-A37E5FF3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A306-9069-4FF4-8974-0CCA4E08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E7F3-6950-4B7F-9CF2-DD3AFC47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1E23-8170-4C58-8A4A-97BD4724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63C-171F-4BE7-8D56-3D95F473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C3B0-FE91-4DD3-8AB4-006A9FC7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4B8-7CC0-4E48-BBF9-F512744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316D-CAD5-4EFE-B878-5B15A079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A49B-2CEC-4DDF-A5B0-C3187067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5621-F8BA-49DA-8FA5-9AFE0061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C5D-761C-47C4-BA73-062030D6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802-4C5C-4D24-8E18-541B515D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8E6-4BDB-4E5F-97AC-FB3174BC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6E2-761E-45A9-A392-F8A1E4AE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E0E-D4D0-4C5F-9BFE-5B66DB59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FAF-8B39-4DB3-8D9E-A92201A5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355-99E6-4C97-B192-77D8573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FCFD-C438-4E2B-8DAF-AF88CD84C6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306D-3806-4C14-86E4-4A4A5D6E7B4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8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16059"/>
                </a:solidFill>
                <a:latin typeface="Arial"/>
              </a:rPr>
              <a:t>Celebrities in the </a:t>
            </a:r>
            <a:br>
              <a:rPr sz="5400"/>
            </a:br>
            <a:r>
              <a:rPr b="1" lang="en-US" sz="5400" spc="-1" strike="noStrike">
                <a:solidFill>
                  <a:srgbClr val="c16059"/>
                </a:solidFill>
                <a:latin typeface="Arial"/>
              </a:rPr>
              <a:t>Culinary Field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6059"/>
                </a:solidFill>
                <a:latin typeface="Arial"/>
              </a:rPr>
              <a:t>Past &amp; Pres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6059"/>
                </a:solidFill>
                <a:latin typeface="Arial"/>
              </a:rPr>
              <a:t>Extremely Influenti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ave Thom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Picture 6" descr="Dave Thomas"/>
          <p:cNvPicPr/>
          <p:nvPr/>
        </p:nvPicPr>
        <p:blipFill>
          <a:blip r:embed="rId1"/>
          <a:stretch/>
        </p:blipFill>
        <p:spPr>
          <a:xfrm>
            <a:off x="1219320" y="1905120"/>
            <a:ext cx="1809720" cy="2617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endy's Logo"/>
          <p:cNvPicPr/>
          <p:nvPr/>
        </p:nvPicPr>
        <p:blipFill>
          <a:blip r:embed="rId2"/>
          <a:stretch/>
        </p:blipFill>
        <p:spPr>
          <a:xfrm>
            <a:off x="3798720" y="3279600"/>
            <a:ext cx="2556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i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6" descr="Giada"/>
          <p:cNvPicPr/>
          <p:nvPr/>
        </p:nvPicPr>
        <p:blipFill>
          <a:blip r:embed="rId1"/>
          <a:stretch/>
        </p:blipFill>
        <p:spPr>
          <a:xfrm>
            <a:off x="609480" y="1600200"/>
            <a:ext cx="64771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ordon Ramse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6" descr="Gordon Ramsay"/>
          <p:cNvPicPr/>
          <p:nvPr/>
        </p:nvPicPr>
        <p:blipFill>
          <a:blip r:embed="rId1"/>
          <a:stretch/>
        </p:blipFill>
        <p:spPr>
          <a:xfrm>
            <a:off x="461880" y="1828800"/>
            <a:ext cx="2857680" cy="358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ell's Kitchen"/>
          <p:cNvPicPr/>
          <p:nvPr/>
        </p:nvPicPr>
        <p:blipFill>
          <a:blip r:embed="rId2"/>
          <a:stretch/>
        </p:blipFill>
        <p:spPr>
          <a:xfrm>
            <a:off x="3886200" y="1892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ames Bear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Picture 6" descr="James Beard"/>
          <p:cNvPicPr/>
          <p:nvPr/>
        </p:nvPicPr>
        <p:blipFill>
          <a:blip r:embed="rId1"/>
          <a:stretch/>
        </p:blipFill>
        <p:spPr>
          <a:xfrm>
            <a:off x="2503440" y="1598760"/>
            <a:ext cx="29052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ulia Chil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6" descr="Julia Child"/>
          <p:cNvPicPr/>
          <p:nvPr/>
        </p:nvPicPr>
        <p:blipFill>
          <a:blip r:embed="rId1"/>
          <a:stretch/>
        </p:blipFill>
        <p:spPr>
          <a:xfrm>
            <a:off x="1066680" y="1981080"/>
            <a:ext cx="55627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obby Fla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Picture 5" descr="Bobby Flay"/>
          <p:cNvPicPr/>
          <p:nvPr/>
        </p:nvPicPr>
        <p:blipFill>
          <a:blip r:embed="rId1"/>
          <a:stretch/>
        </p:blipFill>
        <p:spPr>
          <a:xfrm>
            <a:off x="533520" y="3581280"/>
            <a:ext cx="1679400" cy="2241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BobbyFlayPortrait"/>
          <p:cNvPicPr/>
          <p:nvPr/>
        </p:nvPicPr>
        <p:blipFill>
          <a:blip r:embed="rId2"/>
          <a:stretch/>
        </p:blipFill>
        <p:spPr>
          <a:xfrm>
            <a:off x="2819520" y="1738440"/>
            <a:ext cx="483048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ay Kroc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6" name="Picture 6" descr="Ray Kroc"/>
          <p:cNvPicPr/>
          <p:nvPr/>
        </p:nvPicPr>
        <p:blipFill>
          <a:blip r:embed="rId1"/>
          <a:stretch/>
        </p:blipFill>
        <p:spPr>
          <a:xfrm>
            <a:off x="423720" y="1981080"/>
            <a:ext cx="3164040" cy="358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McDonalds"/>
          <p:cNvPicPr/>
          <p:nvPr/>
        </p:nvPicPr>
        <p:blipFill>
          <a:blip r:embed="rId2"/>
          <a:stretch/>
        </p:blipFill>
        <p:spPr>
          <a:xfrm>
            <a:off x="3657600" y="990720"/>
            <a:ext cx="354492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ario Batal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Picture 5" descr="Mario Batali"/>
          <p:cNvPicPr/>
          <p:nvPr/>
        </p:nvPicPr>
        <p:blipFill>
          <a:blip r:embed="rId1"/>
          <a:stretch/>
        </p:blipFill>
        <p:spPr>
          <a:xfrm>
            <a:off x="914400" y="243828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art"/>
          <p:cNvPicPr/>
          <p:nvPr/>
        </p:nvPicPr>
        <p:blipFill>
          <a:blip r:embed="rId2"/>
          <a:stretch/>
        </p:blipFill>
        <p:spPr>
          <a:xfrm>
            <a:off x="4038480" y="2895480"/>
            <a:ext cx="3708360" cy="3811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http://seattlefoodgeek.com/tag/gadget/"/>
          <p:cNvPicPr/>
          <p:nvPr/>
        </p:nvPicPr>
        <p:blipFill>
          <a:blip r:embed="rId3"/>
          <a:stretch/>
        </p:blipFill>
        <p:spPr>
          <a:xfrm>
            <a:off x="4038480" y="457200"/>
            <a:ext cx="20480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nthony Bourda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Picture 5" descr="Anthony Bourdain"/>
          <p:cNvPicPr/>
          <p:nvPr/>
        </p:nvPicPr>
        <p:blipFill>
          <a:blip r:embed="rId1"/>
          <a:stretch/>
        </p:blipFill>
        <p:spPr>
          <a:xfrm>
            <a:off x="74520" y="1600200"/>
            <a:ext cx="3251160" cy="3657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bourdain"/>
          <p:cNvPicPr/>
          <p:nvPr/>
        </p:nvPicPr>
        <p:blipFill>
          <a:blip r:embed="rId2"/>
          <a:stretch/>
        </p:blipFill>
        <p:spPr>
          <a:xfrm>
            <a:off x="4032360" y="2544840"/>
            <a:ext cx="36176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achael Ray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6" name="Picture 6" descr="Rachael Ray"/>
          <p:cNvPicPr/>
          <p:nvPr/>
        </p:nvPicPr>
        <p:blipFill>
          <a:blip r:embed="rId1"/>
          <a:stretch/>
        </p:blipFill>
        <p:spPr>
          <a:xfrm>
            <a:off x="1289160" y="2060640"/>
            <a:ext cx="5333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d47d"/>
                </a:solidFill>
                <a:latin typeface="Arial"/>
              </a:rPr>
              <a:t>What career opportunities are available for someone with culinary training?</a:t>
            </a:r>
            <a:br>
              <a:rPr sz="3200"/>
            </a:br>
            <a:r>
              <a:rPr b="0" lang="en-US" sz="3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885840" y="3276360"/>
            <a:ext cx="3481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Where can I go from here?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12" descr="AB10961"/>
          <p:cNvPicPr/>
          <p:nvPr/>
        </p:nvPicPr>
        <p:blipFill>
          <a:blip r:embed="rId1"/>
          <a:stretch/>
        </p:blipFill>
        <p:spPr>
          <a:xfrm>
            <a:off x="609480" y="1828800"/>
            <a:ext cx="35146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meril Lagas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8" name="Picture 6" descr="Emeril Lagasse"/>
          <p:cNvPicPr/>
          <p:nvPr/>
        </p:nvPicPr>
        <p:blipFill>
          <a:blip r:embed="rId1"/>
          <a:stretch/>
        </p:blipFill>
        <p:spPr>
          <a:xfrm>
            <a:off x="1417680" y="2332080"/>
            <a:ext cx="50767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ssignment for the day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orking as a group of two you will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ad a brief article about a famous person in the restaurant industr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ummarize the article around certain criteria; soon to be present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esent your finding to the class and let us know what you learned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hef Article Criteria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y nam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y nationality or where I have work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How did I get started in the restaurant industr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y should you know who I am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m I alive or dead? (Past or present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awards have I won, what shows I have been on, or what books have I writte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olfgang Puck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Picture 5" descr="Wolfgang Puck"/>
          <p:cNvPicPr/>
          <p:nvPr/>
        </p:nvPicPr>
        <p:blipFill>
          <a:blip r:embed="rId1"/>
          <a:stretch/>
        </p:blipFill>
        <p:spPr>
          <a:xfrm>
            <a:off x="533520" y="2344680"/>
            <a:ext cx="3504960" cy="3422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wolfgangpucksoup"/>
          <p:cNvPicPr/>
          <p:nvPr/>
        </p:nvPicPr>
        <p:blipFill>
          <a:blip r:embed="rId2"/>
          <a:stretch/>
        </p:blipFill>
        <p:spPr>
          <a:xfrm>
            <a:off x="4367160" y="1598760"/>
            <a:ext cx="2948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rt Smith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Oprah’s Personal Chef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6" descr="Art Smith"/>
          <p:cNvPicPr/>
          <p:nvPr/>
        </p:nvPicPr>
        <p:blipFill>
          <a:blip r:embed="rId1"/>
          <a:stretch/>
        </p:blipFill>
        <p:spPr>
          <a:xfrm>
            <a:off x="457200" y="2895480"/>
            <a:ext cx="2871720" cy="2872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http://nbc5streetteam.wordpress.com/2008/12/18/holiday-tips-from-the-pros-food-and-decor/"/>
          <p:cNvPicPr/>
          <p:nvPr/>
        </p:nvPicPr>
        <p:blipFill>
          <a:blip r:embed="rId2"/>
          <a:stretch/>
        </p:blipFill>
        <p:spPr>
          <a:xfrm>
            <a:off x="4037040" y="1523880"/>
            <a:ext cx="2722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acques Pep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Picture 6" descr="Jacques Pepin"/>
          <p:cNvPicPr/>
          <p:nvPr/>
        </p:nvPicPr>
        <p:blipFill>
          <a:blip r:embed="rId1"/>
          <a:stretch/>
        </p:blipFill>
        <p:spPr>
          <a:xfrm>
            <a:off x="2347920" y="1598760"/>
            <a:ext cx="32176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lonel Sand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6" descr="Colonel Sanders"/>
          <p:cNvPicPr/>
          <p:nvPr/>
        </p:nvPicPr>
        <p:blipFill>
          <a:blip r:embed="rId1"/>
          <a:stretch/>
        </p:blipFill>
        <p:spPr>
          <a:xfrm>
            <a:off x="1595520" y="1598760"/>
            <a:ext cx="47228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ula Dee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5" descr="Paula Deen"/>
          <p:cNvPicPr/>
          <p:nvPr/>
        </p:nvPicPr>
        <p:blipFill>
          <a:blip r:embed="rId1"/>
          <a:stretch/>
        </p:blipFill>
        <p:spPr>
          <a:xfrm>
            <a:off x="838080" y="1717560"/>
            <a:ext cx="6248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2:30:10Z</dcterms:created>
  <dc:creator>Sharon Logan</dc:creator>
  <dc:description/>
  <dc:language>en-US</dc:language>
  <cp:lastModifiedBy>tblogan</cp:lastModifiedBy>
  <dcterms:modified xsi:type="dcterms:W3CDTF">2010-08-25T11:01:58Z</dcterms:modified>
  <cp:revision>10</cp:revision>
  <dc:subject/>
  <dc:title>Celebrities in the  Culinary Field</dc:title>
</cp:coreProperties>
</file>